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FE7-692D-4BE1-8588-6FCD9040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173-BD6E-461E-8DAF-9A2B8CAD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26C-E122-4BEB-BDF8-31FF37D2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7B7-1D67-4ECF-882B-01A39CF7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EE83-3A2A-496A-87B1-B6D3364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F97-C6DA-41E5-A701-A3992D9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E24-AF1F-4A53-97D2-EDA534ED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40A-E313-40C8-85FF-A14C9B7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01E6-0A1A-411B-B944-AECDE1B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28C-9F9C-40FE-A106-2C56EC6C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D972-C4F8-47AA-B104-F354FA2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5BD-5FC2-492E-81E1-67A6318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464C-20D1-48EF-B3C1-D0CE041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8CB1-D213-4F94-AF94-B1342B6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4867-D29C-46E0-9C73-C6BC6A1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DE8-4CD5-4554-A6E0-8DEBEA4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25FA-8C76-465C-8664-886F616F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261-29EC-4F25-9C69-6F5C779D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C55-0DEE-4396-AED5-9F35DA53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E2E-CA3F-42AD-89E5-06174A3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CC9-79E3-49E5-99C5-6BB7F95D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C66-8ECE-4A13-9B41-5C35C82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C2A-5A6E-4C87-8F22-5BFB017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43B-51A9-4E97-BFA4-479F449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3753-E88A-4D5C-A0D4-574E7FC69E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AF3-F0E0-45A9-BF10-4AFDAE1BD3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d469b"/>
                </a:solidFill>
                <a:latin typeface="Book Antiqua"/>
              </a:rPr>
              <a:t>Grades 7/8 Breakout Session 3B&amp;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effective 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 develop 3-4 common questions for the parallel task generated earl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common questions with the other partner pair at your table.  Provide partner pair with specific criteria-based feedback on commo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text book problem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arallel task for the problem with common debrief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hematical processes generate questions to scaffold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professional learning log: Write a reflection about how parallel tasks can be used to support all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s On – Painted Porch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– Analyzing a task, creating a parallel task based on the original task, generate strategies for scaffolding, and develop comm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 – Creating a parallel task, scaffolding and common debrief questions for a text book ques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 the painted porch problem in as many ways as you can. Use concrete, pictorial, table, graphical, numerical, and algebraic representa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prepared to sh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have 35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groups identify the curriculum expectations, Big Idea, and lesson goals for the task that you have just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areas of difficulty for students trying to solve the sam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groups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possible difficulties identified in the previous task create a parallel task that addresses on area of identified difficu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parallel task differentiate based on anticipated difficulti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seven mathematical process in the curriculum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your table discuss the follow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mathematical process did you use to solve the problem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d the problem elicit some processes more than other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TIPS4RM Mathematical Process document provided identify some questions and strategies to support learners who are struggling with th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the potential student difficulties identified earlier, create some task specific promp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 a wonderful brea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three sets of parallel task and questions from Marion Small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urce. As a small group discuss what makes the common questions effec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share as we develop an anchor chart for criteria for effective common debrief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6T21:56:49Z</dcterms:modified>
  <cp:revision>137</cp:revision>
  <dc:subject/>
  <dc:title>Slide 1</dc:title>
</cp:coreProperties>
</file>